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DC01-F4F7-4E76-86DE-066FF6C6D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3ED7-A3D0-40EB-86D7-A1F9DF217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EEA0-2164-43A1-8BF2-69CDFC5CF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A7F1-1FDC-4CFA-8EE1-912221BD1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6F200-011B-4AAC-A10D-CF56ACEF5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2D6C5-B7C6-4BC3-9222-CC05EE080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62972-B228-44EC-8D4A-C08581393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27AB1-57F8-4E2A-84FD-84DBCEDCE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2662F-CD21-4777-9632-C88F6199C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EC178-7CC4-4DF4-B469-4D5B9FCC0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1A95C-4277-4840-B397-A78EC732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4ABF-9E07-41D2-8277-20CBDDA10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E2323-35B7-443B-B0E5-5F395D42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300DC-3223-4D8B-8B51-8EC6ABFC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F5A94-FF56-4388-A90C-3D5C5E23D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13A8C-9930-43B0-A9E7-223120E1C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E403F-A3C2-468B-B2F8-4827471D6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F3CC-DACF-4F68-BEA0-F00A5492A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F712-E181-474E-B5EA-B1CBC2B02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05E7-5240-4722-AB1F-E6512B428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14AB-E9F9-4902-B75E-513B42BBB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4564-F592-45D5-B335-70CD43E1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8586-BDA6-4515-B111-F157D938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3372-C3C5-4E70-A769-A24A35E7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6DBCE-3A47-4FB5-983E-03CB94D5EC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0FA2F-5201-418A-9EE4-53FF8AF43F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esson 1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ub Initialize(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066680" y="1295280"/>
            <a:ext cx="6139080" cy="3419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38560" y="5029200"/>
            <a:ext cx="8047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e Sub Initialize, we have to set the beginning value of numCorrect 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umIncorrect to zero. The reason is plain to see. If someone took the test 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de a score of 4 then another student took the score and made a 4 also,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ssage box would say that person got 8 instead of 4.  We must reset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lue of those two variabl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ub YourName(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523880" y="1523880"/>
            <a:ext cx="5410440" cy="34718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70080" y="5141880"/>
            <a:ext cx="79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are two kinds of dialog boxes that we use. One is a message box tha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lls something.  The other box is an Input box where we ask for inform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m the user. In this case, we are asking for information to be store in th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able userName. In this case, we are asking for their na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ub RightAnswer(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219320" y="1295280"/>
            <a:ext cx="5533920" cy="38386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64040" y="5029200"/>
            <a:ext cx="8158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subroutine is going to keep score and tell the person that we got the r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swer. First we have to tak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umCorr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add one to score. Next, we a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ing to create another subroutine called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oingWell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will give a mess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x. Finally,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ActivePresentation.SlideShowWindow.View.Nex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oes to the nex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li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ub DoingWell(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800600" cy="44877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495040" y="1447920"/>
            <a:ext cx="3646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 I mention before we ha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wo kinds of dialog boxes. 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subroutine we are go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create a message box. W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MsgBox to tell the compu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create a message box. T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must add ( ) and  qu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ks. Any words inside th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" " will be shown in the mess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x. You should also notice t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is an &amp; sign in the (). Th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lls the computer that we want 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other items to the messa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is case we want to add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rName to the messag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ables never have " " mar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ound th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ub WrongAnswer(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80880" y="1295280"/>
            <a:ext cx="4524480" cy="51055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490720" y="1828800"/>
            <a:ext cx="3324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 WrongAnswer is alm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ke Sub RightAnswer. Exce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are going to add 1 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umIncorrect and we are go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write another subrout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led DoingPoor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last statement in th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routine moves to the 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li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ub DoingPoorly(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4491000" cy="5486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109480" y="2133720"/>
            <a:ext cx="3643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 we created a message bo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lling the user that he/she mis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question. Again notice t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words inside the quot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ks will appear in the box. Also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add an &amp; sign and then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rNa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esults - Sub Feedback(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47680" y="1600200"/>
            <a:ext cx="8896320" cy="2286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09960" y="4419720"/>
            <a:ext cx="8530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subroutine will tell the user how well he did. First, you will notice that we 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essage box. It is going to print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You g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 the message box. Then the compu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ll go to the variable numCorrect and place that value in the message box. Next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will print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ut of in the message box. Third, we have the computer add the tw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ariables to get the total number of questions. Finally, it will put the userName i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e message box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aking the Quiz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33520" y="1089000"/>
            <a:ext cx="6248160" cy="5415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019280" y="1143000"/>
            <a:ext cx="2122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rst, we w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create an ac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tton and li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button to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co GetStar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fter you click 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autoshap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roll up to a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ttons and pi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blank butt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ing the mous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aw the an a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tt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4120" y="487692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dure is her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inking Action Butt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52280" y="1371600"/>
            <a:ext cx="6343920" cy="4867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086600" y="1447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556320" y="1676520"/>
            <a:ext cx="2387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on the rad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tton Run Mar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d selec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Star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m the dropd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st. Then click OK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linked the butto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aking Answer Butt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6249960" cy="48196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556680" y="2438280"/>
            <a:ext cx="233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eate ano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tion button and li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to WrongAnswe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 click OK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ecurit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523880" y="1752480"/>
            <a:ext cx="5029200" cy="2521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979920" y="4836960"/>
            <a:ext cx="788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the menu bar at the top you will see the word Tools. Click your mouse 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ols scroll down to Macro. Move the Mouse over and down to the wo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ur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aking More Butt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80880" y="1371600"/>
            <a:ext cx="5983560" cy="49528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477120" y="998640"/>
            <a:ext cx="30477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on the butt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at you just crea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ing the ctrl key 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letter C to cop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tton. Now use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trl key and the l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and paste 4 mo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ttons. All of thes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ttons have th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rong answer lin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y right clicking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use on the butt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at you want the r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swer to be. Choo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tion settings ch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rco 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ightAnswer. B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ing on the button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can type letters 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butt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dding More Ques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673920" y="1789200"/>
            <a:ext cx="8062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y clicking on the extra button on your first question. Press Ctrl + X to cut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tton from that slide.  Create a new slide and then press Ctrl + V to paste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tton. Click on the button then press Ctrl + C to copy the button. Now pr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trl + V and paste 4 more buttons. We always keep the last button to mo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the next slide. Remember to change the button that you want to be correct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on the button and do a right click with the mouse.  Select action setting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d change the macro to RightAnswer. Type A, B, C, and D on the butt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llow the same procedure until you are done with your ques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esul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-533520" y="1523880"/>
            <a:ext cx="6153120" cy="44863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794920" y="1905120"/>
            <a:ext cx="3135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eate another action button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time link the macro 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eedback and then press o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have just finished you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iz. Try it out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etting Securit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438280" y="1379520"/>
            <a:ext cx="4191120" cy="4032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91560" y="5715000"/>
            <a:ext cx="78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must change the security to low and the trusted Publishers both box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uld be click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tarting Visual Basic Edito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523880" y="1752480"/>
            <a:ext cx="5181840" cy="2203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997560" y="5029200"/>
            <a:ext cx="72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on the word Tools again then scroll down to the word Marco a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Visual Basic Edit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isual Basic Edito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7392960" cy="46101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300680" y="6019920"/>
            <a:ext cx="592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on the word Insert and then select the word Modu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riting Progra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57200" y="1295280"/>
            <a:ext cx="8037360" cy="37339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66080" y="5715000"/>
            <a:ext cx="749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rite our programs in box under the word General.  Let's get starte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eclaring Variabl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762120" y="1600200"/>
            <a:ext cx="7315200" cy="30481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47480" y="5065560"/>
            <a:ext cx="866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word Dim tells the computer at we want to create a variable. Next we mu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me the variable. In the example above, the names are numCorrect, numIncorrect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d userName.  Finally, we must tell the computer how we want to store the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ables.  Integer means numbers. String means letters or wor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ubrouti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838080" y="1523880"/>
            <a:ext cx="6726240" cy="2971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24160" y="4913280"/>
            <a:ext cx="8375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subroutine in a small program that we use as a macro in PowerPoint. The wo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 tells the computer that we are going to create a mini program to run i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werPoint.  After the word Sub we must name the program and remember t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must be one word.  You will also notice that after pressing enter the ph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 Sub will appea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ub GetStarted(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38080" y="1523880"/>
            <a:ext cx="6726240" cy="28195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87360" y="4800600"/>
            <a:ext cx="8565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can run other subroutines in a subroutine. We are going to create tw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routines after this one. They are going to be Initialize and YourName. So to ru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ther subroutines in a subroutine, we just type the names of the subroutin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for the line ActivePresentation.SlideShowWindow.View.Next.  This comm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lls the computer to move to the next sli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14:15:57Z</dcterms:created>
  <dc:creator>jnatale</dc:creator>
  <dc:description/>
  <dc:language>en-US</dc:language>
  <cp:lastModifiedBy>jnatale</cp:lastModifiedBy>
  <dcterms:modified xsi:type="dcterms:W3CDTF">2009-02-18T19:06:47Z</dcterms:modified>
  <cp:revision>39</cp:revision>
  <dc:subject/>
  <dc:title>Simple Text</dc:title>
</cp:coreProperties>
</file>